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7EF9-3748-4C52-8818-EE2A93E4E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884A-8A54-46B6-BF1B-5EB1033B5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2FE6-5925-4677-A9E0-ED16B344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6165-B1FB-438C-9755-70FA6A55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4BF-9D45-430C-81A5-CCB9E85C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DCF4-511C-40B4-BAE1-74F32BE3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E236-27B4-4D97-BF14-73584925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785A-F1F5-4CAD-966A-7606FFC3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098B-B22E-49AF-8ADC-CE93E1B8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35E2-109A-42A6-8F6C-41FFCBF3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2FC9-C3F3-4F1C-A5A9-0BE4BD1C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E592-3357-4861-91AA-DEBCE7D2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A02A-16BA-4AE3-8901-12084F1D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1736-4801-4752-B582-139196E1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93E8-5A74-487A-88CB-449F1467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924C-C73F-4917-9352-53DD301C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B902-584C-4854-9031-D65AFBC7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775A-FC79-46AD-B34F-29B660CB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916D-A393-4C47-B31B-E455682E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4E44-3C65-43CE-BDDC-C18CBF36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FCB7-5F56-4FBF-9105-A0BECBEE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D465-5B87-4FDF-A889-3FA0348F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BD57-A1EC-4638-8AC1-22EC311E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6906-7F15-4705-B8C1-1543676A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B04A-30E5-4D42-B034-6FB30114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88B7-B391-46D2-994B-1047210F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2208-64E6-44B1-863D-E3C451083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5BFD-D4EF-404C-972B-E0069066B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Internet Financial Top-level Domains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Associates Meeting 8 December 2011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nternet Corporation fro Assigned Names and Numbers (ICANN) controls the establishment of valid Top Level Domains names (TLDs) such as “.com” or “.org”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o availabilities. New generic Top Level Domains (gTLDs) names program launched by ICANN : “anyone can apply for anything” (.bank ; .banque, …)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Applications open from 12 January to 12 April 2012. Evaluation afterwards (9–20 months). New gTLDs will likely be delegated in early 2013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Raises concerns on Fraud and Intellectual property 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564000" y="1916280"/>
            <a:ext cx="201600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ICAN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63528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476360" y="3284640"/>
            <a:ext cx="194328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579600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8436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124000" y="4653000"/>
            <a:ext cx="129564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56400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11280" y="5732640"/>
            <a:ext cx="1368360" cy="43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1835280" y="6165720"/>
            <a:ext cx="1368360" cy="43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2050920" y="5589720"/>
            <a:ext cx="1368720" cy="43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traight Connector 23"/>
          <p:cNvSpPr/>
          <p:nvPr/>
        </p:nvSpPr>
        <p:spPr>
          <a:xfrm>
            <a:off x="4211640" y="285264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Connector 25"/>
          <p:cNvCxnSpPr>
            <a:endCxn id="103" idx="0"/>
          </p:cNvCxnSpPr>
          <p:nvPr/>
        </p:nvCxnSpPr>
        <p:spPr>
          <a:xfrm flipV="1" rot="10800000">
            <a:off x="2447280" y="2203920"/>
            <a:ext cx="1116720" cy="108036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3" name="Straight Connector 27"/>
          <p:cNvCxnSpPr>
            <a:endCxn id="104" idx="0"/>
          </p:cNvCxnSpPr>
          <p:nvPr/>
        </p:nvCxnSpPr>
        <p:spPr>
          <a:xfrm>
            <a:off x="5579640" y="2276640"/>
            <a:ext cx="1188360" cy="100872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14" name="Straight Connector 30"/>
          <p:cNvSpPr/>
          <p:nvPr/>
        </p:nvSpPr>
        <p:spPr>
          <a:xfrm>
            <a:off x="1619280" y="422100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34"/>
          <p:cNvSpPr/>
          <p:nvPr/>
        </p:nvSpPr>
        <p:spPr>
          <a:xfrm>
            <a:off x="2771640" y="4149720"/>
            <a:ext cx="0" cy="50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Connector 36"/>
          <p:cNvCxnSpPr/>
          <p:nvPr/>
        </p:nvCxnSpPr>
        <p:spPr>
          <a:xfrm>
            <a:off x="3276720" y="4221000"/>
            <a:ext cx="791280" cy="432720"/>
          </a:xfrm>
          <a:prstGeom prst="bentConnector3">
            <a:avLst>
              <a:gd name="adj1" fmla="val 4997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7" name="Straight Arrow Connector 43"/>
          <p:cNvCxnSpPr/>
          <p:nvPr/>
        </p:nvCxnSpPr>
        <p:spPr>
          <a:xfrm flipV="1">
            <a:off x="2555640" y="5228640"/>
            <a:ext cx="1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45"/>
          <p:cNvCxnSpPr>
            <a:stCxn id="109" idx="1"/>
          </p:cNvCxnSpPr>
          <p:nvPr/>
        </p:nvCxnSpPr>
        <p:spPr>
          <a:xfrm flipH="1" flipV="1">
            <a:off x="1834920" y="5229000"/>
            <a:ext cx="2023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9" name="Straight Arrow Connector 47"/>
          <p:cNvCxnSpPr>
            <a:stCxn id="108" idx="0"/>
          </p:cNvCxnSpPr>
          <p:nvPr/>
        </p:nvCxnSpPr>
        <p:spPr>
          <a:xfrm flipH="1" flipV="1">
            <a:off x="1115640" y="5229000"/>
            <a:ext cx="1800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Actions  undertaken </a:t>
            </a:r>
            <a:br>
              <a:rPr sz="3200"/>
            </a:b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by the Industry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Bfed and EBF tried to convince ICANN to refrain from proceeding with new gTLD such as “.bank” or at least  to create a process with additional safeguards. In response, ICANN amended  its guidebook acknowledging that financial Top-level domains will require higher level of security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BA/BITS and ?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WG on Security Standards (minimum evaluation criteria that ICANN evaluators should use to judge applicants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+ VeriSign) NewCo 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fTLD Registry Services, LLC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o apply as registry operator for “.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bank”  (March 2012) </a:t>
            </a:r>
            <a:r>
              <a:rPr b="0" lang="en-US" sz="24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Raising awareness (GAC, Basle Cttee, European Commission, …)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Next steps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EBF endorsement of the minimum security standards ?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evated security standards are primarily policies on how the Registry Operator (wholesaler of domain names) and their Registrars (retailer of domain names) must act and operat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Policie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ypes of nam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igibility requirement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Validation prior activ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00 % accurate registrant inform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ompliance  : Registry agreement with ICANN/ Registry-Registrar agreements, registration agreement etc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articipation in the ABA/BITS NewCo ?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Application for other generic Top Level domains names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national level, cross-countries ?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ontinue to raise awarenes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497d"/>
                </a:solidFill>
                <a:latin typeface="Calibri"/>
              </a:rPr>
              <a:t>ICANN Governmental Advisory Committee (GAC) Early Warning system</a:t>
            </a:r>
            <a:endParaRPr b="0" lang="en-US" sz="1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1:11:41Z</dcterms:created>
  <dc:creator>Tatyana Ferragallo</dc:creator>
  <dc:description/>
  <dc:language>en-US</dc:language>
  <cp:lastModifiedBy>Dominique Buggenhout</cp:lastModifiedBy>
  <dcterms:modified xsi:type="dcterms:W3CDTF">2011-12-08T12:19:44Z</dcterms:modified>
  <cp:revision>177</cp:revision>
  <dc:subject/>
  <dc:title>Slide 1</dc:title>
</cp:coreProperties>
</file>